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DE55-ED96-4711-B5DC-5160EA57E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E82-9E28-441F-98FC-BAA62542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0BC7-2123-4D72-A275-4B4005DB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BA9-B9E8-4DDD-ABEC-1820F914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88F8-DAA8-4830-BE99-9CB86E652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259-DF12-41AB-8B18-5B21D7FEE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7CAD-DC89-414B-9AA2-FEE1B33E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54AA-69AC-44D2-B374-53E0D49D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E86A-21A5-4CF7-B43F-7B4770EB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014F-2966-4320-A4D7-F5EDC6693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78E0-55DB-48FF-B272-7A7A7668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B39-01FB-437F-839B-515AE682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870F-CFEE-4E47-9194-3A31735A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8483-320A-4846-84A8-213F57879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2264-E2E0-467D-92EA-9448DA67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459-5773-4632-9FED-783A8E28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CE74-76F3-413E-A524-82F50233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E5C-4920-4CF4-956F-9CA0B9BE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507-DF95-43C4-A1E8-0D8B05B2E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719-5947-4927-ABB3-3185D0465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B61-9672-41B0-B473-3DEE7EA4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432-A8ED-45B1-A2C1-6AE74D25D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134-AE81-42A5-BC73-805B6D94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34BE-A43C-454A-82C1-E6DDF337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79E-9739-4D7A-999A-C7264FFD8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0A9C-6453-4A80-BEB2-BD12B789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9961-0B1F-44CB-8643-70E6F6520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3B03-4DD7-4EDE-8126-781AF89B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D54F-02ED-4B5D-81E5-9C9EDD0C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043-9FB5-4BDD-AC75-1007D5EF1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CC0-06C0-4B4F-A3CC-C22BFAFF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670-44BB-4C2F-8400-C53661FA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F27-31CF-42AF-A950-0967DF05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498C-AA43-4249-93F7-0B2770B5B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8540-FD8D-4C1C-9250-2622170D4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A131-F3EA-4A61-885C-796EFFD2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E48E-D57A-48FB-A1A7-5CCC1131B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itami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80"/>
          <p:cNvSpPr/>
          <p:nvPr/>
        </p:nvSpPr>
        <p:spPr>
          <a:xfrm>
            <a:off x="69840" y="2766960"/>
            <a:ext cx="5464080" cy="8431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should be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ified to prevent an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AutoShape 80"/>
          <p:cNvSpPr/>
          <p:nvPr/>
        </p:nvSpPr>
        <p:spPr>
          <a:xfrm>
            <a:off x="0" y="2470320"/>
            <a:ext cx="5838840" cy="1155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-to feed formulas m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used within _____ h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op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336600" y="5951520"/>
            <a:ext cx="4191120" cy="90648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arm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80"/>
          <p:cNvSpPr/>
          <p:nvPr/>
        </p:nvSpPr>
        <p:spPr>
          <a:xfrm>
            <a:off x="0" y="2535120"/>
            <a:ext cx="6192720" cy="11224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ngerous way to warm up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w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pple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reast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8" name="AutoShape 80"/>
          <p:cNvSpPr/>
          <p:nvPr/>
        </p:nvSpPr>
        <p:spPr>
          <a:xfrm>
            <a:off x="0" y="2567160"/>
            <a:ext cx="4336920" cy="11142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ood fo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’s immu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9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7"/>
          <p:cNvSpPr/>
          <p:nvPr/>
        </p:nvSpPr>
        <p:spPr>
          <a:xfrm>
            <a:off x="4668840" y="5867280"/>
            <a:ext cx="4246560" cy="99072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533520" y="6095880"/>
            <a:ext cx="33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vum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4952880" y="502920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4952880" y="6095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ctopic pre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80"/>
          <p:cNvSpPr/>
          <p:nvPr/>
        </p:nvSpPr>
        <p:spPr>
          <a:xfrm>
            <a:off x="0" y="2519280"/>
            <a:ext cx="5694480" cy="118584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irl that is breast f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infancy h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risk of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24444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rms and l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5"/>
          <p:cNvSpPr/>
          <p:nvPr/>
        </p:nvSpPr>
        <p:spPr>
          <a:xfrm>
            <a:off x="533520" y="609588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yes and 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aws and te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eet and ank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feeding he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develop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l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3" name="AutoShape 80"/>
          <p:cNvSpPr/>
          <p:nvPr/>
        </p:nvSpPr>
        <p:spPr>
          <a:xfrm>
            <a:off x="69840" y="2766960"/>
            <a:ext cx="4421160" cy="922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 feeding he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evelop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her and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xyto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5"/>
          <p:cNvSpPr/>
          <p:nvPr/>
        </p:nvSpPr>
        <p:spPr>
          <a:xfrm>
            <a:off x="657360" y="5904000"/>
            <a:ext cx="35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ow Body    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icc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breast f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of this occurs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6"/>
          <p:cNvSpPr/>
          <p:nvPr/>
        </p:nvSpPr>
        <p:spPr>
          <a:xfrm>
            <a:off x="4952880" y="502920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reathing 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0" name="AutoShape 80"/>
          <p:cNvSpPr/>
          <p:nvPr/>
        </p:nvSpPr>
        <p:spPr>
          <a:xfrm>
            <a:off x="69840" y="2438280"/>
            <a:ext cx="4470480" cy="12430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that is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feeding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i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2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0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8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7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45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4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2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0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l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roll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’s who Breast f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s  less odor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ins in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ess miss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ump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oss of a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dvantage of br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ing when you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 to 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ot 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w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reast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recommended u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infan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year 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7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8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6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4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3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1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0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8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5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6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3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4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>
            <a:hlinkClick r:id="" action="ppaction://hlinkshowjump?jump=nextslide"/>
          </p:cNvPr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kim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33520" y="609588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rtified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los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itch’s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1"/>
          <p:cNvSpPr/>
          <p:nvPr/>
        </p:nvSpPr>
        <p:spPr>
          <a:xfrm>
            <a:off x="304920" y="2220840"/>
            <a:ext cx="5159160" cy="1084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irst few days 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, breast milk is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14840" y="4751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o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u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as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e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80"/>
          <p:cNvSpPr/>
          <p:nvPr/>
        </p:nvSpPr>
        <p:spPr>
          <a:xfrm>
            <a:off x="69840" y="2327400"/>
            <a:ext cx="5899320" cy="1263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n infant does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stfeed because he/she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or ______ refl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96920" y="48481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bar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80"/>
          <p:cNvSpPr/>
          <p:nvPr/>
        </p:nvSpPr>
        <p:spPr>
          <a:xfrm>
            <a:off x="69840" y="2070000"/>
            <a:ext cx="5929200" cy="13795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’s milk, goat’s mil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_____ are the basis for m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Paula</cp:lastModifiedBy>
  <dcterms:modified xsi:type="dcterms:W3CDTF">2010-06-16T01:53:50Z</dcterms:modified>
  <cp:revision>36</cp:revision>
  <dc:subject/>
  <dc:title>No Slide Title</dc:title>
</cp:coreProperties>
</file>